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0720" cy="344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8440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38C21D-DCD0-4BBC-A170-731285EA8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6CE040-C6D8-40F0-8ABD-C2E4D7A26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 Recurring services – monthly telephone or internet b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recurring services – installations, equipment, wiring (things that happen o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 1 – Sept 30 – good time for installation b/c schools are closed during the sum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4D73AD-FBAD-44D0-9EE2-74F5F3E85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’ll talk about a few examples of what P1 and P2’s are in the next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we fund all P1’s first and then move to P2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w/the S&amp;L that qualify for a 90% discount and we go down by 1%, so to 89% and so on until we run out of money – for example in FY 2007 we funded P2’s from 81% and above, and have denied at 80% and be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4FF8B-43E6-4BD6-9EFA-52AC016713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37DB7-7A82-4C1A-BCA6-0C2929A2F1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24805-F252-4258-A2A1-ED95573565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D0FDC-9924-4607-A302-B8D3C5CFE2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F8CC1-4501-433B-AAD4-866F4F7984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6FFF2-C416-40A1-853C-C4A7D1BA58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90B4B-557D-4C6A-A50C-73AC7B0036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F2946-E801-46BA-82B4-A67EC25E25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A09F5-B4DF-4F39-8CF2-9FD45918D3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62674-B7BC-44C5-844E-2EFA6D4D04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0AE2C-D0CC-41C7-AEE6-DAB9675757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DFF69-ACA6-4F50-BF8C-33582B03E1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5F889-28BD-44C3-A361-96FA30FBD8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3EA77-6BD5-4155-AB44-AA11E209A6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E2520-B5B1-4455-BF70-CE61BA2EB1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BE77C-801B-4CAC-90F7-25C34E1975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8821E-2ECE-4F15-A8DA-FBE9E7DE31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AC55C-711D-4261-8F5F-9A0B1AFD73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9553A-0B20-4E3C-9AB7-ADDD360A74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3F07B-25EB-4601-97B1-6CF482323E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D2888-7D13-424B-AA5B-744758D465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CF6D2-5AB6-4C5E-9088-D5D4E7CF2F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AB936-E909-4011-B717-1E54FC8529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757C2-1321-46AD-ABC2-1AE99B4605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7610760" y="6458040"/>
            <a:ext cx="145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56b2"/>
                </a:solidFill>
                <a:latin typeface="Arial"/>
              </a:rPr>
              <a:t>www.usac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0" descr=""/>
          <p:cNvPicPr/>
          <p:nvPr/>
        </p:nvPicPr>
        <p:blipFill>
          <a:blip r:embed="rId2"/>
          <a:stretch/>
        </p:blipFill>
        <p:spPr>
          <a:xfrm>
            <a:off x="0" y="-76320"/>
            <a:ext cx="2286000" cy="297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038480" y="6244920"/>
            <a:ext cx="106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E342-435D-4245-A6CE-8AA0E7BBA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7924320" y="650700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a56b2"/>
                </a:solidFill>
                <a:latin typeface="Arial"/>
              </a:rPr>
              <a:t>www.usac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-76320"/>
            <a:ext cx="2286000" cy="2973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4190760" y="624492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54F0-4235-415A-941D-653CC30E2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9"/>
          <p:cNvSpPr/>
          <p:nvPr/>
        </p:nvSpPr>
        <p:spPr>
          <a:xfrm>
            <a:off x="1371600" y="1676520"/>
            <a:ext cx="571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ginners S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ing You Succ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and Libraries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228600" y="5791320"/>
            <a:ext cx="8534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shington, DC • Newark • Atlanta • Chicago • Orlando • Los Angeles • Portland • Houst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/October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9186-8B1E-4ABD-A308-1E1DAED09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 file a program fo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, you have three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online, certify o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online, certify on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nd certify on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C encourages you to file o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filing speeds processing and reduces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D1AF-5C13-4B55-B22A-8D34CA75F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time you file a program form,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A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nds you a l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ters are color-coded by funding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98 and 1999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ary (Yellow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ue                     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02DD-B585-4515-9ADA-DFD4F5A4D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Technology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ust write a technology plan that contains the following el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and strategies for using technology to improve education or library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ff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s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if you are only requesting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asic telephone serv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 technology plan is not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265C-591E-4E2E-AFC7-8A36071EB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Technology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71080" y="179856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a56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56b2"/>
                </a:solidFill>
                <a:latin typeface="Arial"/>
              </a:rPr>
              <a:t>Acronyms and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ive el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five required topics you must address in your technology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 Plan Approver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– the agency certified b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A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approves your technology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asic telephone serv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no-frills dial-tone service (wired or wirel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091B-2510-4F9B-B2F4-3AFC1B458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Request services (47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post a Form 470 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 competitive bidd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fy potential bidders (service providers) of the types and quantities of services that you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scope of your needs (e.g., a school building, a library system, a state net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B1E3-25B3-4F2E-87A2-D53016051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Request services (47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79856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a56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6b2"/>
                </a:solidFill>
                <a:latin typeface="Arial"/>
              </a:rPr>
              <a:t>Acronyms and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led Entity Number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– an identification number assigned b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A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each school or library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Identification Number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– a code assigned b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A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pplicants for use in certifying program forms o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C issues a PIN to every new authorized person filing a paper Form 470, 471, or 4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FF3F-16D5-46E6-94E6-211457CD9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Request services (47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79856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a56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6b2"/>
                </a:solidFill>
                <a:latin typeface="Arial"/>
              </a:rPr>
              <a:t>Acronyms and term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st for Proposals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F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– a bidding document (not required by E-rate) that provides detailed information about your services, locations, bid submission requirement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states or procurement agencies refer to these documents by other names, e.g., Invitation for Bids (IF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C8DF-B5C3-4CE7-8540-12AF4F484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Request services (47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79856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a56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6b2"/>
                </a:solidFill>
                <a:latin typeface="Arial"/>
              </a:rPr>
              <a:t>Acronyms and term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470 Receipt Notification Letter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N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– a letter issued b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A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applicant that summarizes the information provided in the Form 4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able vendor selection/contract date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– the date 28 days after the Form 470 is posted to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A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35E8-8BA7-45FB-BA02-1128802AD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Competitive bid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 open a competitive bidding process for your servic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bidders have the information from your Form 470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F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an respond to your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ust ensure that the competitive bidding process is open and f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ust be prepared to evaluate b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4197-B61E-43CF-9B4A-CAE427F76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Competitive bid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79856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a56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6b2"/>
                </a:solidFill>
                <a:latin typeface="Arial"/>
              </a:rPr>
              <a:t>Acronyms and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service provider response to your Form 470 and/or RFP that contains services and prices and any other information you have requ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ice as the primary fa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In evaluating bids, the price of the eligible products and services must be the most heavily-weighted factor in your evaluation of b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3AA7-F0F0-4D2B-85BF-19D65971F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4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information about E-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st services (Form 47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tive bi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/contract for services (Form 47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review &amp; funding commi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services (Form 48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ice USAC (Form 472 or Form 47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5A1A-DBE4-49D6-B31D-35CC77D4C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Competitive bid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fter you close the competitive bidding process for your services (on or after th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C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evaluate the bids rece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choose your service provide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sign a con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post a Form 4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09F7-CD13-4FD5-B5EF-8775DBD65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hoose services (47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post a Form 471 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information on the service providers and services you have cho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 list of the schools and libraries that will receiv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discount calculation information including studen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SL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tify your compliance with program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98B9-9182-418A-978E-CB6293DC1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hoose services (47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57000" y="165564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a56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6b2"/>
                </a:solidFill>
                <a:latin typeface="Arial"/>
              </a:rPr>
              <a:t>Acronyms and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Request Number (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FR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– the identification number assigned to a Form 471 Block 5 funding requ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 Provider Identification Number (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PI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– the identification number assigned by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USA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a service prov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 providers may have more than one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PI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order to identify separate business units, different states in which they operate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B61F-5232-47C4-B17D-71828DF9F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hoose services (47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a56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56b2"/>
                </a:solidFill>
                <a:latin typeface="Arial"/>
              </a:rPr>
              <a:t>Acronyms and terms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instructional facility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– a school building with no classrooms or a library building with no public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IF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eligible for Priority 1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IF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eligible for Priority 2 services only if necessary to provide effective transport of information to classrooms or public areas of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D6BF-FC3C-4E8D-9965-E835D2715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hoose services (47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a56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56b2"/>
                </a:solidFill>
                <a:latin typeface="Arial"/>
              </a:rPr>
              <a:t>Acronyms and terms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m 21 Attachment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tem 2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– the description of services associated with a funding request (Item 21 on Form 47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 21 attachments can be submitted online or on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C encourages online filing, especially for simpler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81E4-9901-406F-A2D5-F6A5D1EFD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hoose services (47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560" y="179856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a56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56b2"/>
                </a:solidFill>
                <a:latin typeface="Arial"/>
              </a:rPr>
              <a:t>Acronyms and terms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471 Receipt Acknowledgment Letter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– a letter issued b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A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applicant and the service provider that summarizes the information provided in the Form 4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f the entries on the form can be corrected after submission by using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0D98-937F-479F-8F65-F382F9901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Application 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A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views your Form(s) 471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the eligibility of the schools and libraries and their discount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y that the services you requested are eligible for dis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you an opportunity to make allowable corrections to your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ome cases, ask for additional verification of your compliance with program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6286-362E-42A9-9E17-232082497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Application 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a56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6b2"/>
                </a:solidFill>
                <a:latin typeface="Arial"/>
              </a:rPr>
              <a:t>Acronyms and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gram Integrity Assurance (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P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– the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USA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roup that reviews and makes funding decisions on program 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Commitment Decision Letter (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FCD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– a letter issued by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USA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the applicant and the service provider that contains commitment decisions on funding requ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4DCF-6C06-49B8-A1BD-F8C1F2A67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Start services (48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post a Form 486 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f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A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services have started and invoices for those services can be processed and p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the name of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approved your technology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your status of compliance with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770B-CF5C-4925-A631-AFA95BC4A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Start services (48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a56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56b2"/>
                </a:solidFill>
                <a:latin typeface="Arial"/>
              </a:rPr>
              <a:t>Acronyms and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rm 486 Notification Let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letter issued b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A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applicant and service provider after a Form 486 has been proc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ren’s Internet Protection Act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I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– a law with specific requirements on Internet safety policies and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4A0D-1141-4B8C-9B94-12DAF8580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 Communications Commission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C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an independent U.S. government agency, oversees the E-rat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al Service Administrative Company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A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a not-for-profit, administers E-rate along with three other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s and Libraries Division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s the part of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A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responsibility for E-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8AFC-6F6D-4D05-A3AA-D82507F5D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Invoicing USAC (472/47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nts have a choice of two invoicing methods to receive discounts on eligible servic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lled Entity Applicant Reimbursement 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EA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Form 4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vice Provider Invoice 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P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Form 4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5EA8-A34B-4C9A-84DB-E618F07D9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Invoicing USAC (472/47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EA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Form is filed by the applicant and approved by the service provider after the applicant has paid for the services in f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P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Form is filed by the service provider after the applicant has been billed for the non-discount portion of the cost of eligible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E805-A8E6-479A-A2B2-122036E38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Invoicing USAC (472/47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2a56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56b2"/>
                </a:solidFill>
                <a:latin typeface="Arial"/>
              </a:rPr>
              <a:t>Acronyms and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EAR Notification Let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letter issued b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A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applicant and service provider after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E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been proc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arterly Disbursement Repo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report issued to the applicant detailing all invoicing activity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E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P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during the previous qu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54A9-0D02-45CF-A732-50F0407F2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tting hel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ent Service Bureau 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S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888-203-8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 a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 News Bri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p She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AC website – www.usac.org/s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-rate B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A2CF-EE59-465D-A849-8F004DE36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D4BF-E61E-467E-B0C0-5D95E12D2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C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ts rules and policies through 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 are compiled in the Code of Federal Regulations 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F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ies are defined in the text of 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A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ts procedures for specific actions, such as how to process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US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nds its procedures to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C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pproval each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1535-8903-472C-8AFA-B7DE7A227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tments for E-rate are made by funding year, which runs from July 1 through the following June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FY2010 is July 1, 2010 – June 30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tments are capped at $2.25 billion for each funding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each year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C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roll over unused funds from previous funding years into the current funding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F286-162F-47E2-BD9B-0235F51E1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orm 47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le from April before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indo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28 days before th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Windo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orm 47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Must be filed during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ind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generally mid-November to early February before the start of the funding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unding wa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Groups of funding decisions issued after USAC review – waves generally start in April before the start of the funding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vo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an file after services are received for the funding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10BC-01F1-4659-9B03-07FED981F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can app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s and school distri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raries and library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rtia – groups of eligible entities that band together to aggregate demand and negotiate lower p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8A84-69B6-4C9A-9277-EDE8887B6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large are the discounts on eligible products and servic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ounts: 20% to 90% of eligible co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ount for a school or library depends 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centage of eligibility of students for National School Lunch Program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NSL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i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or a school) the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or a library) the school district in which the library is loc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Urba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rur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location of the school or libr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DBF9-9D10-4FBA-8C88-5E3809EF2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ervices are eligi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iority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funded fir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elecommunications Serv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ternet Ac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iority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funded beginning with neediest applicants fir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ternal Conne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asic Maintenance of Internal Conne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22:02:20Z</dcterms:created>
  <dc:creator>rreynolds</dc:creator>
  <dc:description/>
  <dc:language>en-US</dc:language>
  <cp:lastModifiedBy>John Noran</cp:lastModifiedBy>
  <dcterms:modified xsi:type="dcterms:W3CDTF">2009-09-17T20:17:07Z</dcterms:modified>
  <cp:revision>294</cp:revision>
  <dc:subject/>
  <dc:title>Slide 1</dc:title>
</cp:coreProperties>
</file>